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whistle.wav" ContentType="audio/x-wav"/>
  <Override PartName="/ppt/media/train.wav" ContentType="audio/x-wav"/>
  <Override PartName="/ppt/media/CAMERA.WAV" ContentType="audio/x-wav"/>
  <Override PartName="/ppt/media/image4.wmf" ContentType="image/x-wmf"/>
  <Override PartName="/ppt/media/image5.png" ContentType="image/png"/>
  <Override PartName="/ppt/media/image3.wmf" ContentType="image/x-wmf"/>
  <Override PartName="/ppt/media/wee.wav" ContentType="audio/x-wav"/>
  <Override PartName="/ppt/media/moo.wav" ContentType="audio/x-wav"/>
  <Override PartName="/ppt/media/TYPE.WAV" ContentType="audio/x-wav"/>
  <Override PartName="/ppt/media/tigger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CF6-E8A4-4E1F-9044-455F37F4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8A9-3FF7-47D5-8B18-A9FAA1E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DF3-640C-4782-8BA5-22F04A08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452-18C2-40B0-910A-45704787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2C3-12C0-47D5-8A5E-F2A879F2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2FA-C297-46AC-B2A7-814DF5F0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9CA-7732-457E-B959-627AA0F9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645-D769-4FFE-9E9D-5897AC49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E4B-FE6A-45B7-BB5E-D6281222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E5B-56D4-457D-BA87-D99F818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A80-480F-4A4A-B9FE-D05111CC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CA0-7374-44FB-A6E2-9CB201E1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4C46-44F6-4E22-9D4F-55B5F577D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ff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rain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audio" Target="../media/train.wav"/><Relationship Id="rId4" Type="http://schemas.openxmlformats.org/officeDocument/2006/relationships/audio" Target="../media/we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moo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igge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istle.wav"/><Relationship Id="rId2" Type="http://schemas.openxmlformats.org/officeDocument/2006/relationships/audio" Target="../media/whistle.wav"/><Relationship Id="rId3" Type="http://schemas.openxmlformats.org/officeDocument/2006/relationships/audio" Target="../media/whistl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istle.wav"/><Relationship Id="rId2" Type="http://schemas.openxmlformats.org/officeDocument/2006/relationships/audio" Target="../media/whistle.wav"/><Relationship Id="rId3" Type="http://schemas.openxmlformats.org/officeDocument/2006/relationships/audio" Target="../media/whistl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Created by 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Poh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43000" y="380880"/>
            <a:ext cx="6858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Jester"/>
              </a:rPr>
              <a:t>Parts of a Sent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pic>
        <p:nvPicPr>
          <p:cNvPr id="45" name="Picture 8" descr="clown"/>
          <p:cNvPicPr/>
          <p:nvPr/>
        </p:nvPicPr>
        <p:blipFill>
          <a:blip r:embed="rId2"/>
          <a:stretch/>
        </p:blipFill>
        <p:spPr>
          <a:xfrm>
            <a:off x="1219320" y="251460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A sentence has two parts.  It has a 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subject</a:t>
            </a: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 and a 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predicate</a:t>
            </a: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2455920" cy="381024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1143000" y="380880"/>
            <a:ext cx="6858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Jester"/>
              </a:rPr>
              <a:t>Parts of a Sent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666880" y="12193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e </a:t>
            </a: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names who the sentence is about.</a:t>
            </a:r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pic>
        <p:nvPicPr>
          <p:cNvPr id="53" name="Picture 6" descr="tigrrr"/>
          <p:cNvPicPr/>
          <p:nvPr/>
        </p:nvPicPr>
        <p:blipFill>
          <a:blip r:embed="rId2"/>
          <a:stretch/>
        </p:blipFill>
        <p:spPr>
          <a:xfrm>
            <a:off x="7086600" y="2590920"/>
            <a:ext cx="144612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80880" y="36576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e </a:t>
            </a: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predicate </a:t>
            </a: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ells what they did.</a:t>
            </a:r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g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Jes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young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148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check the whe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re noi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likes the air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clear and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a busy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atches the air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miles at S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80880" y="1371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Subject</a:t>
            </a:r>
            <a:endParaRPr b="0" lang="en-US" sz="40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57200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Predicate</a:t>
            </a:r>
            <a:endParaRPr b="0" lang="en-US" sz="40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0" name="WordArt 11"/>
          <p:cNvSpPr txBox="1"/>
          <p:nvPr/>
        </p:nvSpPr>
        <p:spPr>
          <a:xfrm>
            <a:off x="838080" y="228600"/>
            <a:ext cx="7239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Jester"/>
              </a:rPr>
              <a:t>Put the sentence parts together.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istl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Jes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young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ork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148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a busy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re noi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likes the air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clear and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check the whe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atches the air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miles at S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80880" y="1371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Subject</a:t>
            </a:r>
            <a:endParaRPr b="0" lang="en-US" sz="40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Predicate</a:t>
            </a:r>
            <a:endParaRPr b="0" lang="en-US" sz="40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838080" y="228600"/>
            <a:ext cx="7239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Jester"/>
              </a:rPr>
              <a:t>Put the sentence parts together.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828800" y="2895480"/>
            <a:ext cx="2514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200400" y="289548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3429000" y="40384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0" name="Line 15"/>
          <p:cNvSpPr/>
          <p:nvPr/>
        </p:nvSpPr>
        <p:spPr>
          <a:xfrm flipV="1">
            <a:off x="2209680" y="4038120"/>
            <a:ext cx="2133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1" name="Line 16"/>
          <p:cNvSpPr/>
          <p:nvPr/>
        </p:nvSpPr>
        <p:spPr>
          <a:xfrm flipV="1">
            <a:off x="2362320" y="5790960"/>
            <a:ext cx="19047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2895480" y="2286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22860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istl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0T02:13:23Z</dcterms:created>
  <dc:creator>Thomas Pohlman</dc:creator>
  <dc:description/>
  <dc:language>en-US</dc:language>
  <cp:lastModifiedBy>Laura McDow</cp:lastModifiedBy>
  <dcterms:modified xsi:type="dcterms:W3CDTF">2010-08-26T00:24:32Z</dcterms:modified>
  <cp:revision>14</cp:revision>
  <dc:subject/>
  <dc:title>No Slide Title</dc:title>
</cp:coreProperties>
</file>